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FDA0C-C465-4625-AE7C-057C69517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CEF26-7B04-4BB2-893B-03B045A88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F20AF-3700-4C01-BAEE-D2D7CF7B5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6B49F-C7A7-441F-BCB3-E3D835758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047F3-4C3B-4A9E-91A0-312CFB86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45B5-2D7D-4BBF-931D-1E7DCDB6D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F497C-CCAA-48C2-9C89-CCA763B2B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78683-30BF-40E4-9061-46DD9A55C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2969E-7B2B-4C2D-9297-0DB4A7218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28CD-AD3D-4A09-9E76-28D0DA842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F46C-6EC3-4F0A-A93B-E40F1C735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B3BD7-11CD-4BA5-99CD-DBBAAC358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CFA4-2DD3-46F4-8BF6-2702D9BBF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ctden.com/pp/index.htm"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92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x5x5  Power Point Plans</a:t>
            </a:r>
            <a:endParaRPr b="0" lang="en-US" sz="3600" spc="-1" strike="noStrike">
              <a:solidFill>
                <a:srgbClr val="000000"/>
              </a:solidFill>
              <a:latin typeface="Arial"/>
            </a:endParaRPr>
          </a:p>
        </p:txBody>
      </p:sp>
      <p:sp>
        <p:nvSpPr>
          <p:cNvPr id="42" name=""/>
          <p:cNvSpPr/>
          <p:nvPr/>
        </p:nvSpPr>
        <p:spPr>
          <a:xfrm>
            <a:off x="0" y="609480"/>
            <a:ext cx="9144000" cy="593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ollowing empty slides as you research your  topic to plan how each slide will look. You must hand this in for approval before starting the actual power point proje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about what types of clip art or pictures would help teach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 a sketch for each slid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should b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Title Slide…including student names and the title… maybe a cool picture relating to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Information slides teaching us what you learned…there could be hyperlinks to a website, labeled diagrams or pictu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sure there is enough information to explain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Finally there should be a slide listing the resources used…such as websites and book tit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need help with Power Point go here…</a:t>
            </a:r>
            <a:endParaRPr b="0" lang="en-US" sz="2000" spc="-1" strike="noStrike">
              <a:solidFill>
                <a:srgbClr val="000000"/>
              </a:solidFill>
              <a:latin typeface="Arial"/>
            </a:endParaRPr>
          </a:p>
        </p:txBody>
      </p:sp>
      <p:sp>
        <p:nvSpPr>
          <p:cNvPr id="43" name=""/>
          <p:cNvSpPr/>
          <p:nvPr/>
        </p:nvSpPr>
        <p:spPr>
          <a:xfrm>
            <a:off x="5279760" y="607392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ctden.com/pp/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4:12:01Z</dcterms:created>
  <dc:creator>ccps</dc:creator>
  <dc:description/>
  <dc:language>en-US</dc:language>
  <cp:lastModifiedBy>ccps</cp:lastModifiedBy>
  <dcterms:modified xsi:type="dcterms:W3CDTF">2007-10-03T18:33:14Z</dcterms:modified>
  <cp:revision>4</cp:revision>
  <dc:subject/>
  <dc:title>5x5x5 Power Point Plans</dc:title>
</cp:coreProperties>
</file>